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27B-9B47-473F-876D-A42BBDB1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4A1-32DA-41C6-8F79-1375EB48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E7B-7CB5-48F5-9427-21031780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656-3F7D-4D7D-B5ED-709E314B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ED04-43D6-4A9F-8FFE-F8FF1279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1461-F62C-4E4B-B2E1-36EEDD8B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AF3E-1580-4211-A2EE-4F6801C4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5AD5-F048-41CA-BA53-800B3B2F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621F-93F9-4778-9C78-527397B9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5520-0DC1-4BF9-828A-6B95A579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5BFA-1531-48AE-818A-C7D0BEC8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F08-0C31-4C74-9D6B-361547CF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B384-CE5D-464C-8A4F-3A672DF6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EF3F-F64B-46A9-82FF-665D6E1D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648E-5C8C-4120-8976-0261E793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1A18-92E9-4BF7-923F-A4D585CD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52BE-9C63-4125-A758-ECA51CCA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733-B451-4BF4-81D6-57573EC8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AB8-7976-4F1F-B728-2BAD5FB8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DFA-05BD-4F34-AAF2-D2EADD18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116-4B78-4676-B0B9-979B96B1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D7D-13C2-4377-BCCB-B89259E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0A4-BC4D-4B0B-972B-92DD7D79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55C-8D66-4392-A9AB-7C6C2C4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2ed2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2ed2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2293-E31E-44E2-A1A3-B9BF959779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2ed2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2ed2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494F-04BC-4751-89FC-B0095A68A3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6656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Board of Standards and Appeals</a:t>
            </a:r>
            <a:br>
              <a:rPr sz="3600"/>
            </a:b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Community Board 3 / Manhattan</a:t>
            </a:r>
            <a:br>
              <a:rPr sz="3600"/>
            </a:b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June 13, 2011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1560"/>
            <a:ext cx="8229600" cy="39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pplications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Varianc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pecial Permit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mendment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Vested Right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ppeal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Public Review Proces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Basis of Board Decision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7077240" y="1523880"/>
            <a:ext cx="1469880" cy="1636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6173640" y="2521080"/>
            <a:ext cx="1808280" cy="127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7077240" y="3800520"/>
            <a:ext cx="14810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Community Board 3 / Manhattan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s since 20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 varianc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special permit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 vested rights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 appeals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 amendment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 Approv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Den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 Withdraw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p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5760" y="318600"/>
            <a:ext cx="81406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History and Role</a:t>
            </a:r>
            <a:r>
              <a:rPr b="0" lang="en-US" sz="4400" spc="-1" strike="noStrike">
                <a:solidFill>
                  <a:srgbClr val="99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5652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reated in 1916 with the adoption of New York City’s first Zoning Code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lief Valve” for properties unduly burdened by the zoning code based on unique site condi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oard’s existence ensures that the City’s zoning is protected from broad constitutional challen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oard is an independent, administrative review body with five members including three licensed professionals in Planning, Architecture and Engineer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oard’s 15 staff includes professionals in law, planning, finance and environmental review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Application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Variances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pecial permits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mendments to Previous Approval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Vested Right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ppeal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Variance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ve Findin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 U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nique physical condition that results in hardshi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herent in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ubject propert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b)  R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easonable financial retur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annot be realized because of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ch hard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c)  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sential neighborhood charact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ill not be chang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d)  Hardship is no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elf cre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e)  Relief granted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inimum necessar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a feasible 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ard must ma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ch and every find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order to approve the vari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Special Permits and Amendment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cial permits for Health Clubs (physical culture establishments), schools in M Districts, cell towers in residential distri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ndments to previously approved plans and /or re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ons of term of previously granted variances (for eg. gas stations, auto-repairs, transient parking in residential building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Vested Right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lications to vest permits under prior zo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options:  Zoning Resolution Section 11-331, 11-332 or Common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lications under 11-331 must file within 30 days of the zoning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ard decision is based 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ssuance of valid building permits prior to new zoning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Excavation is complete and substantial progress made in constructing found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Tahoma"/>
              </a:rPr>
              <a:t>Appeals</a:t>
            </a: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als to Buildings Dept Determin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pretation of Zoning Regu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ance of Building Permi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ivers to the Building Code and Multiple Dwelling Law based on practical difficulty and unnecessary hard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Public Review Proces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ard Rules require variances and special permits be referred to community boards, city councilmembers, borough president  and City Pla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ve entities receive copies of the application and any subsequent submissions by applic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 boards are given 60 days to revi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ard Rules require hearing notices be sent to community boards and affected property own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ve requirements do not apply to vesting and appeals 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Board Decision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ard’s basis is the statute (findings) under which it is authorized to make deci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ard is guided by legal precedent and cas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oard is subject to legal challenge, and therefore imperative that the Board’s decisions are defen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3:01:46Z</dcterms:created>
  <dc:creator>DCAS</dc:creator>
  <dc:description/>
  <dc:language>en-US</dc:language>
  <cp:lastModifiedBy>Meenakshi Srinivasan</cp:lastModifiedBy>
  <cp:lastPrinted>2011-06-13T20:05:58Z</cp:lastPrinted>
  <dcterms:modified xsi:type="dcterms:W3CDTF">2011-06-13T21:00:55Z</dcterms:modified>
  <cp:revision>24</cp:revision>
  <dc:subject/>
  <dc:title>Board of Standards and Appeals Community Board 3/Staten Island March 5, 2009</dc:title>
</cp:coreProperties>
</file>