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6A1-D3A1-4785-A363-F71843A1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2C5-E02F-4DD3-B1D3-FE6F32C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766-25F2-4563-A882-AEEA5ACF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50F-AC34-4812-AB6E-A8B5023F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82AA-0FF7-43F0-AA0C-8327EA03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C8F4-EAA8-4A5B-8C30-54FECC3A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6655-9666-4630-B32C-834F729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67F-2B1A-4393-A017-027D99E7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8F04-0C0F-4C51-A5D0-76CEA4B2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3103-B86E-4AB5-8AD3-15ED0E0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37B1-6F5C-457E-96CD-E2067B3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581-6C72-482E-9850-A1A3A93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076-DDDE-433A-93CC-95C48D5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A72-6E00-4FFC-84C1-58DC66C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23ED-C4D7-4432-A17C-A9A6658F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9AB9-62A1-46A9-9EDE-252E4E66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F88A-8164-4719-8350-3650F390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67C-7D88-4F30-A3EE-8E62600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182-A4C2-4809-ADB8-8B4A94B2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7ED-3AAC-418D-9B14-2C3EDA4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0A9-CE43-4AC3-A1E7-7632FA8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52C-1B37-40EA-A7EC-C798AE4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9A7-333D-48CE-AFE1-953C740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6CB-9E80-4DAB-B848-460EBBC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8C8-436C-4CDA-9D19-662519C391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2ed2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1F28-B7BA-4A1E-A281-AFB83A9C30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6656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Board of Standards and Appeals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Community Board 3 / Manhattan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June 13, 2011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pplications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Varianc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pecial Permi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mendmen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Vested Righ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ppeal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Public Review Proces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Basis of Board Decision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7077240" y="1523880"/>
            <a:ext cx="1469880" cy="1636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6173640" y="2521080"/>
            <a:ext cx="1808280" cy="127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077240" y="3800520"/>
            <a:ext cx="14810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Community Board 3 / Manhattan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s since 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 varianc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special permit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 vested rights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appeals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 amendment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 Appro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Den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 Withdraw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5760" y="318600"/>
            <a:ext cx="81406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History and Role</a:t>
            </a: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565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reated in 1916 with the adoption of New York City’s first Zoning Cod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lief Valve” for properties unduly burdened by the zoning code based on unique site condi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’s existence ensures that the City’s zoning is protected from broad constitutional challe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 is an independent, administrative review body with five members including three licensed professionals in Planning, Architecture and 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oard’s 15 staff includes professionals in law, planning, finance and environmental revie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ariance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pecial permit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mendments to Previous Approva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ested Right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ppea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Variance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Findin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 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ique physical condition that results in hardshi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herent in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ubject proper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b)  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asonable financial retu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nnot be realized because o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ch hard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)  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sential neighborhood charac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ill not be chan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)  Hardship is no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lf cre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)  Relief granted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inimum necessar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a feasible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d must m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and every fin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order to approve the var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Special Permits and Amendment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al permits for Health Clubs (physical culture establishments), schools in M Districts, cell towers in residential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s to previously approved plans and /or re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ons of term of previously granted variances (for eg. gas stations, auto-repairs, transient parking in residential building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Vested Right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 to vest permits under prior z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options:  Zoning Resolution Section 11-331, 11-332 or Common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s under 11-331 must file within 30 days of the zoning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decision is based 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ssuance of valid building permits prior to new zon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xcavation is complete and substantial progress made in constructing found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Tahoma"/>
              </a:rPr>
              <a:t>Appeals</a:t>
            </a:r>
            <a:endParaRPr b="0" lang="en-US" sz="44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ls to Buildings Dept Determi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pretation of Zoning Regu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ance of Building Permi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vers to the Building Code and Multiple Dwelling Law based on practical difficulty and unnecessary hard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Public Review Proces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Rules require variances and special permits be referred to community boards, city councilmembers, borough president  and City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 entities receive copies of the application and any subsequent submissions by applic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boards are given 60 days to re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Rules require hearing notices be sent to community boards and affected property own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 requirements do not apply to vesting and appeals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Board Decisions</a:t>
            </a:r>
            <a:endParaRPr b="0" lang="en-US" sz="3600" spc="-1" strike="noStrike">
              <a:solidFill>
                <a:srgbClr val="99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’s basis is the statute (findings) under which it is authorized to make deci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ard is guided by legal precedent and cas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ed2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ard is subject to legal challenge, and therefore imperative that the Board’s decisions are defen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3:01:46Z</dcterms:created>
  <dc:creator>DCAS</dc:creator>
  <dc:description/>
  <dc:language>en-US</dc:language>
  <cp:lastModifiedBy>Meenakshi Srinivasan</cp:lastModifiedBy>
  <cp:lastPrinted>2011-06-13T20:05:58Z</cp:lastPrinted>
  <dcterms:modified xsi:type="dcterms:W3CDTF">2011-06-13T21:00:55Z</dcterms:modified>
  <cp:revision>24</cp:revision>
  <dc:subject/>
  <dc:title>Board of Standards and Appeals Community Board 3/Staten Island March 5, 2009</dc:title>
</cp:coreProperties>
</file>